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6365-B8DD-4408-B878-D24CA392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1ECF-3B7D-42C2-82CA-79D3B14D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A649-D3B7-4FDC-A2F8-16C3E004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3140-A07F-4E07-89CD-715B7C00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E0EE-3BB9-4DE7-BCC1-E07DC0F1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5E31-BCFB-49F6-BF49-9F10DDE0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DABB-3571-4E33-8815-332A246F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B6E0-C08A-4E1F-BE63-A54A0551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A5DF-D647-4038-8F68-EE1FF66C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674A-63E3-4A51-936D-35A25BC6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1273-585A-4C2F-A3A7-9C1DBA82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FBFE-8A1F-47CB-AA55-A72BB7AD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F949-139C-423E-AC69-33B65AD3E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7354800" cy="1270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373392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78487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2680" y="152280"/>
            <a:ext cx="9031320" cy="5484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5029200"/>
            <a:ext cx="53352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52680" y="50292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502920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419720" cy="1009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1407960"/>
            <a:ext cx="8305920" cy="5478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33720" y="6553080"/>
            <a:ext cx="10666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6248520"/>
            <a:ext cx="1447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05560" cy="6010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43000" y="5791320"/>
            <a:ext cx="15238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5791320"/>
            <a:ext cx="16765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5791320"/>
            <a:ext cx="1752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7T16:16:45Z</dcterms:created>
  <dc:creator>Graham</dc:creator>
  <dc:description/>
  <dc:language>en-US</dc:language>
  <cp:lastModifiedBy>Graham</cp:lastModifiedBy>
  <dcterms:modified xsi:type="dcterms:W3CDTF">2012-08-08T12:18:20Z</dcterms:modified>
  <cp:revision>2</cp:revision>
  <dc:subject/>
  <dc:title>Slide 1</dc:title>
</cp:coreProperties>
</file>